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A50E-5C03-4B00-BA21-B5EBBD2957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Though presumably in the best constitution most good citizens would be goo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Who is a citizen depends on what the regime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The oligarch and the democrat both make claims about what the “common good” is that are incorrect but have some t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The many may be individually ignorant but together w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Here the </a:t>
            </a:r>
            <a:r>
              <a:rPr b="0" i="1" lang="en-NZ" sz="1200" spc="-1" strike="noStrike">
                <a:solidFill>
                  <a:srgbClr val="000000"/>
                </a:solidFill>
                <a:latin typeface="Arial"/>
              </a:rPr>
              <a:t>polis 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is viewed in “functional” terms as whatever community provides for the good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In this sense, we can say that on the social contract (e.g., that of Hobbes, which we will study) view the city is not natural at all: it is an invention or artificial construction devised to constrain certain natural tendencies that we have to harm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Is Aristotle right that the city – the political community – should be promoting the good character of the citiz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Do we ourselves care about the good character of our fellow citiz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Consider student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Note who this definition excludes: people who cannot take part in the key judicial and deliberative bodies are excluded from citizenship, people who are always ruled, but never ruled (e.g., slaves, metics, wom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0819-3A4D-4390-A137-4FA4738C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B08F-EA28-48CA-BC96-25BA23D0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0E84-79C7-43A7-A0E3-01858B16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E279-CC6E-41B4-AD35-FA438E8E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AF73-DD37-43C3-8A32-38C3E616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C5A1-F227-4F83-AC98-164A2A96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8E2B-C3C2-4A7C-8765-5ED93E43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11C3-E506-4DE6-95DA-8CBD248A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659-8D9B-4C43-9ACE-5790B36B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1CFD-A75D-4A95-A69D-4D7E7691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1B75-010B-4C6D-9D33-366FD059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8982-BDAF-4059-AA86-579B1578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64D4-66E0-492D-A17E-5920BBB77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6484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9999"/>
                </a:solidFill>
                <a:latin typeface="Arial"/>
              </a:rPr>
              <a:t>Aristo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9999"/>
                </a:solidFill>
                <a:latin typeface="Arial"/>
              </a:rPr>
              <a:t>23 July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is a good citiz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good citizen is also relative to the co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evertheless, a good citizen must be a free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ould a craftsman or someone engaged in manual work be a truly free m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s the good citizen simply a good per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craftsman and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4098960" cy="53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hat kinds of regimes (</a:t>
            </a:r>
            <a:r>
              <a:rPr b="0" i="1" lang="en-NZ" sz="4000" spc="-1" strike="noStrike">
                <a:solidFill>
                  <a:srgbClr val="000000"/>
                </a:solidFill>
                <a:latin typeface="Arial"/>
              </a:rPr>
              <a:t>politeiai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) ex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gimes where the ruler rules in the common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on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risto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o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0" y="206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gimes where the ruler rules in the interest of a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yran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ligarch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Rule of the weal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emo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Rule of the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16360" y="134136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ix Basic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citizen and the reg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iti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ll free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nly wealthy free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nly one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nly the virt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 virtuous pop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g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emo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lig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on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ristocracy or mon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o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dialogue between the oligarch and the democr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99"/>
                </a:solidFill>
                <a:latin typeface="Arial"/>
              </a:rPr>
              <a:t>Oligarch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Justice can’t be equality in everything: those who contribute the most must have a greater share of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Democrat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the many together may possess as much property as the weal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dialogue between the oligarch and the democr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99"/>
                </a:solidFill>
                <a:latin typeface="Arial"/>
              </a:rPr>
              <a:t>Oligarch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It is unjust for the many to take away the property of the f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Democrat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It is not unjust if it is done legally by those who are sovere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dialogue between the oligarch and the democr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99"/>
                </a:solidFill>
                <a:latin typeface="Arial"/>
              </a:rPr>
              <a:t>Oligarch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The many are not able to reach good judgments about political matters, since they are not individually virtu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Democrat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Wealth is not identical with virtue, and at any rate the many together can reach good judgments about political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s the crowd superior in wisdom to the fe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382428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Under what conditions is the majority superior to the fe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many must not be too vic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re must be some diversity of 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few must not be too superior in virt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s this a defence of democrac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556000" y="1125360"/>
            <a:ext cx="3628800" cy="504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structure of the </a:t>
            </a:r>
            <a:r>
              <a:rPr b="0" i="1" lang="en-NZ" sz="4400" spc="-1" strike="noStrike">
                <a:solidFill>
                  <a:srgbClr val="000000"/>
                </a:solidFill>
                <a:latin typeface="Arial"/>
              </a:rPr>
              <a:t>Poli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ook I: The city and its function; the function of other natural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ooks II-VI: Imperfect political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Book II: Other People’s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Books III-VI: Imperfect reg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ook VII-VIII: The best politica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NZ" sz="4000" spc="-1" strike="noStrike">
                <a:solidFill>
                  <a:srgbClr val="000000"/>
                </a:solidFill>
                <a:latin typeface="Arial"/>
              </a:rPr>
              <a:t>polis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and other comm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2708280"/>
            <a:ext cx="6985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16360" y="1844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ouseho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92720" y="1844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Villag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64360" y="184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3141720"/>
            <a:ext cx="2016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eces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la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ncomplet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213000"/>
            <a:ext cx="2232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Unnecessary 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er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goo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Contrast: “Social Contract” vie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s the city a kind of social contract designed for mutual benefit or mutual def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poli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is not simply an alliance designed for the production or trade of goods or mutual defence (III.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goal of the </a:t>
            </a: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poli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is to foster the good character and virtue of the citizens, and hence the good life (III.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reedom and sla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ree 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ursues his own purposes rather than those of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not constrained by the necessities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iti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ursues another’s purposes and view of the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constrained by the necessities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on-citi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4629240" cy="47671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city: a second 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ook I defines the city in functional terms: a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polis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is whatever community ensures the full flourishing of human be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ook III defines the city in terms of its parts: a city is a group of citiz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ree questions about citizen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at is a citiz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o ought to be a citiz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at is a good citiz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52360" y="0"/>
            <a:ext cx="10369440" cy="6915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is a citiz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the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omeone who can take part in the key judicial and deliberative bodies of a political community: someone who both rules and is ru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pract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omeone who meets the legal requirements for citizenship (e.g., someone who is born of citizen par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10333080" cy="6840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o ought to be a citiz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ifferent constitutions or regimes (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politeiai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) give different answers to th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ifferent people are thought to be qualified to rule in different sorts of reg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o the question of who ought to be a citizen reduces to what is the best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polite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22:10:07Z</dcterms:created>
  <dc:creator>Full Name</dc:creator>
  <dc:description/>
  <dc:language>en-US</dc:language>
  <cp:lastModifiedBy>Full Name</cp:lastModifiedBy>
  <dcterms:modified xsi:type="dcterms:W3CDTF">2008-07-22T20:55:11Z</dcterms:modified>
  <cp:revision>9</cp:revision>
  <dc:subject/>
  <dc:title>Aristotle </dc:title>
</cp:coreProperties>
</file>